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992D6-5A55-474C-8E65-BAF545075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729D1-6E57-4B1B-83DB-55A611489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A0AED-3EF8-45B5-9E1E-F92465DBE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66E5A-9DE9-4333-88A3-BD0B58395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EBCF4-93CD-4AAB-A87E-1FD38E40D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0D09A-2C6B-4C58-B6DA-5807FA9F7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AC5C1-D2E5-4959-942B-D84603A3A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8A828-9D48-4155-9A47-33967F7CF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F200F-CD59-490C-A1CE-A17EA4475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91DC4-73F4-4667-8C34-D135BE182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35851-2E20-464B-A4A6-7D51A9F30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81ACF-5D28-4C80-A42A-D0861CABE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47CD3-7001-41F9-909C-8FDA7275E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87487-F0D7-40B8-9A67-B78676AC2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D531-9390-4342-8006-C4C89F357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C5E9A-7436-4EE2-BA74-187529823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0DCB6-21B3-4A6B-9591-7C7DA4D9E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718F0-DB4B-4FF1-9C66-8EDA93DFF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3B90-80B0-4D98-80C8-750558935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5A3AD-E6F8-49DA-BED5-EB0E8E7BE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421C4-4842-4EB4-9553-D412BB828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2A182-1AF2-4522-BF5A-0A5C975ED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C5ED4-E90D-4A43-BA94-F3073952B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BC95D-39DB-48CC-B8C1-CD4082BD6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D7C14-965C-451B-BCC7-0E9B0BD55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D09C7-B84B-4722-A6F5-51D2532EE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96BF1-AC00-4C0E-984D-B26A783F6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8114B-D805-40A2-8D19-52F25C95F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FC8D8-1833-4744-B808-B631D6C5D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C1F6B-32C3-4F85-93C7-403378089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2BD5-58B8-498C-9083-7245541F5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29D3A-7E04-4678-B2B1-D3EB02872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 overlap in a sideways fashion, the result is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  Note that the two regions of overlap constitute a singl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56738-264A-4078-B20E-A25DAC328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86565-7D32-42A2-9ED4-7DBFE3F07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13D8B-D0D4-4069-9CE6-50BCA1401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D18EC-9C1E-48D2-9881-F973D4255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 in ethyl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hybridized 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 on each C atom overlap to form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  The electron density in th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 is above and below the bond axis, whereas in th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, the electron density lies on the bond axis.  The two lobes constitute on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78D66-BF0C-44C3-9C62-8303A8BA6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8EEF-7666-49BB-9EE3-C8FF3C579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DAC61-FD28-45CC-95F8-CB778DF74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F142-4FEC-4324-B1E4-4AFF041CC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4F9F4-074A-4AE9-B494-61751F021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18C9B-E877-4449-8B35-A2878F931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9D76B-B0AC-4E76-800B-50BC6CD67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CA674-96F6-4559-BDEC-5C0F5F126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6F6E-171E-4BD1-9339-C6BF22D99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0DE60-17EB-4AC7-B86E-E6A09A061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64F7-C356-4733-84D2-B84E01058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783F7-100A-4CBC-B67E-38FE9CD71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680E6-74F4-483C-9045-1E0F3E4FD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BA30E-3869-48BB-98BE-81696011D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9-01UNEx9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Exercise 9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structures of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3E396-878D-481C-98CD-4A3C4AFF0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30Ex9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in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ized and delocalized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 in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35020-CEA8-4540-B2BB-CEE3E038C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ocalized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x 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 of benzene, shown in Figure 9.28(b), can be used to make C—C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. (a, b)   Two equivalent ways to make localized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.   Thes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 correspond to the two resonance structures for benzene. (c) A representation of the smearing out, or delocalization, of the three C—C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 among the six C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0018-A507-4A14-A946-C66147D0F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9BAC-46AD-429A-8C6C-6304E11E2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EBDE5-9EDD-4C45-9503-F43263050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E9590-D62C-4CD1-A7EA-0697676A2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B1BD-F970-42D5-A4E5-4A805EE3C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C7B9-76B1-4FBF-8F4C-B73240A5E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5B96-2B99-4CAC-BB47-CCC2D9B97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1E47-0D37-499F-9B35-9F174B63D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904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4DC4-A8C2-4B83-9FF2-4F0B41BAB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5245-E952-46F4-A159-FBA439322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8E51-F49B-4FAC-BB77-0C1313BFD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D43F-F9BF-40CF-9046-8C0EDDB3E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1904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5253-17F9-4120-8C98-B5B188AC8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CF85-2787-4557-ACD6-72A1CFA7E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0FC6-83C5-4791-96E3-CD2F5A001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17C0-A1BD-4213-81C4-D3FBA42EA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E10E2FD8-518D-4281-A29D-792B34A9F39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91FC77BF-0FE0-4152-A173-9CE498015A6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2743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0 a &amp; b  The Structure of Lithium Flu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9" descr="fig_08_10ab"/>
          <p:cNvPicPr/>
          <p:nvPr/>
        </p:nvPicPr>
        <p:blipFill>
          <a:blip r:embed="rId2"/>
          <a:stretch/>
        </p:blipFill>
        <p:spPr>
          <a:xfrm>
            <a:off x="4324320" y="376200"/>
            <a:ext cx="3559320" cy="594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216E1843-90E0-47FB-B48C-38AE6429CFC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44100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 Diagram 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ll_08_04"/>
          <p:cNvPicPr/>
          <p:nvPr/>
        </p:nvPicPr>
        <p:blipFill>
          <a:blip r:embed="rId2"/>
          <a:stretch/>
        </p:blipFill>
        <p:spPr>
          <a:xfrm>
            <a:off x="1981080" y="1357200"/>
            <a:ext cx="5181840" cy="49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66D74268-C07E-4BD6-A452-21BF8486F50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40356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Diagram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ll_08_09"/>
          <p:cNvPicPr/>
          <p:nvPr/>
        </p:nvPicPr>
        <p:blipFill>
          <a:blip r:embed="rId2"/>
          <a:stretch/>
        </p:blipFill>
        <p:spPr>
          <a:xfrm>
            <a:off x="1981080" y="1328760"/>
            <a:ext cx="518184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E70F7360-04B0-4971-B111-D75AE29CC42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40356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 Diagram 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ill_08_10"/>
          <p:cNvPicPr/>
          <p:nvPr/>
        </p:nvPicPr>
        <p:blipFill>
          <a:blip r:embed="rId2"/>
          <a:stretch/>
        </p:blipFill>
        <p:spPr>
          <a:xfrm>
            <a:off x="2133720" y="1387440"/>
            <a:ext cx="4876560" cy="48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0F6FF8F-B1E6-456B-836D-81135192F6C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40356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 Diagram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ill_08_11"/>
          <p:cNvPicPr/>
          <p:nvPr/>
        </p:nvPicPr>
        <p:blipFill>
          <a:blip r:embed="rId2"/>
          <a:stretch/>
        </p:blipFill>
        <p:spPr>
          <a:xfrm>
            <a:off x="1905120" y="1219320"/>
            <a:ext cx="5333760" cy="50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B23DCA6-8326-46CC-8651-8D24194A52A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table_08_02"/>
          <p:cNvPicPr/>
          <p:nvPr/>
        </p:nvPicPr>
        <p:blipFill>
          <a:blip r:embed="rId2"/>
          <a:stretch/>
        </p:blipFill>
        <p:spPr>
          <a:xfrm>
            <a:off x="622440" y="1200240"/>
            <a:ext cx="8064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DB8FE72-8438-4D1A-978B-B0735066D4C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488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9  The Energy Changes Involved in the Formation of Lithium Fluoride from Its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fig_08_09"/>
          <p:cNvPicPr/>
          <p:nvPr/>
        </p:nvPicPr>
        <p:blipFill>
          <a:blip r:embed="rId2"/>
          <a:stretch/>
        </p:blipFill>
        <p:spPr>
          <a:xfrm>
            <a:off x="2057400" y="1903320"/>
            <a:ext cx="5029200" cy="437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9FF5F0A0-B416-4196-AE95-EBF769CB10E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2743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0 a &amp; b  The Structure of Lithium Flu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29" descr="fig_08_10ab"/>
          <p:cNvPicPr/>
          <p:nvPr/>
        </p:nvPicPr>
        <p:blipFill>
          <a:blip r:embed="rId2"/>
          <a:stretch/>
        </p:blipFill>
        <p:spPr>
          <a:xfrm>
            <a:off x="4324320" y="376200"/>
            <a:ext cx="3559320" cy="594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733286A-A5FF-43ED-BA1D-F064927FD60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8960" y="572400"/>
            <a:ext cx="288144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11  Comparison of the Energy Changes Involved in the Formation of Solid Sodium Fluoride and Solid Magnesi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h08_11"/>
          <p:cNvPicPr/>
          <p:nvPr/>
        </p:nvPicPr>
        <p:blipFill>
          <a:blip r:embed="rId2"/>
          <a:stretch/>
        </p:blipFill>
        <p:spPr>
          <a:xfrm>
            <a:off x="3378240" y="600120"/>
            <a:ext cx="5387760" cy="548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2A2581A1-BB05-4686-9510-B7A8D253EC3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table_08_04"/>
          <p:cNvPicPr/>
          <p:nvPr/>
        </p:nvPicPr>
        <p:blipFill>
          <a:blip r:embed="rId2"/>
          <a:stretch/>
        </p:blipFill>
        <p:spPr>
          <a:xfrm>
            <a:off x="762120" y="279360"/>
            <a:ext cx="784836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5588804D-74E3-490C-B3EB-B558958A2E1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table_08_05"/>
          <p:cNvPicPr/>
          <p:nvPr/>
        </p:nvPicPr>
        <p:blipFill>
          <a:blip r:embed="rId2"/>
          <a:stretch/>
        </p:blipFill>
        <p:spPr>
          <a:xfrm>
            <a:off x="380880" y="685800"/>
            <a:ext cx="84456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A174FD6-B4BE-4744-9CAF-EBE2FD2AD11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76040"/>
            <a:ext cx="83059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gure 8.1 a &amp; b  (a) The Interaction of Two Hydrogen Atoms (b) Energy Profile as a Function of the Distance Between the Nuclei of the Hydrogen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ig_08_01ab"/>
          <p:cNvPicPr/>
          <p:nvPr/>
        </p:nvPicPr>
        <p:blipFill>
          <a:blip r:embed="rId2"/>
          <a:stretch/>
        </p:blipFill>
        <p:spPr>
          <a:xfrm>
            <a:off x="380880" y="2178000"/>
            <a:ext cx="8382240" cy="410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876240" y="6858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the table of Bond Energies to calculate the ΔH for the following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379880" y="1905120"/>
            <a:ext cx="638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+   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+     2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C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+     2HF     +     2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695760" y="47242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 = -119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4F17D7A5-8962-4AF3-9518-844CD35D624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09_06-02UNT02a"/>
          <p:cNvPicPr/>
          <p:nvPr/>
        </p:nvPicPr>
        <p:blipFill>
          <a:blip r:embed="rId2"/>
          <a:stretch/>
        </p:blipFill>
        <p:spPr>
          <a:xfrm>
            <a:off x="609480" y="685800"/>
            <a:ext cx="8077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E3CC36A-815D-4529-BE89-7B281B2F20C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09_06-02UNT02b"/>
          <p:cNvPicPr/>
          <p:nvPr/>
        </p:nvPicPr>
        <p:blipFill>
          <a:blip r:embed="rId2"/>
          <a:stretch/>
        </p:blipFill>
        <p:spPr>
          <a:xfrm>
            <a:off x="533520" y="457200"/>
            <a:ext cx="81532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27F723F-41A7-45E5-9751-684C78FEE83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9040" y="2498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8  The Bond Angles In the CH4,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 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fig_08_18"/>
          <p:cNvPicPr/>
          <p:nvPr/>
        </p:nvPicPr>
        <p:blipFill>
          <a:blip r:embed="rId2"/>
          <a:stretch/>
        </p:blipFill>
        <p:spPr>
          <a:xfrm>
            <a:off x="457200" y="2441520"/>
            <a:ext cx="8229600" cy="302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69C90683-2A6E-486A-949B-A63C59CC3A9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09_07-04UNT03a"/>
          <p:cNvPicPr/>
          <p:nvPr/>
        </p:nvPicPr>
        <p:blipFill>
          <a:blip r:embed="rId2"/>
          <a:stretch/>
        </p:blipFill>
        <p:spPr>
          <a:xfrm>
            <a:off x="1066680" y="228600"/>
            <a:ext cx="69868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E603B00-16B3-426E-BBFA-177F705A22B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27" descr="09_07-04UNT03b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125751F-A5CA-4921-AD5D-F6ED2CC0AD8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1292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0 a &amp; b  Possible Electron Pair Arrangements for Xe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fig_08_20ab"/>
          <p:cNvPicPr/>
          <p:nvPr/>
        </p:nvPicPr>
        <p:blipFill>
          <a:blip r:embed="rId2"/>
          <a:stretch/>
        </p:blipFill>
        <p:spPr>
          <a:xfrm>
            <a:off x="380880" y="2798640"/>
            <a:ext cx="8382240" cy="23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5BDCEF59-4605-4FDA-A4D1-256FA43F28F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94680"/>
            <a:ext cx="8305920" cy="18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1 a-c  Three Possible Arrangements of the Electron Pairs in the 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ig_08_21ac"/>
          <p:cNvPicPr/>
          <p:nvPr/>
        </p:nvPicPr>
        <p:blipFill>
          <a:blip r:embed="rId2"/>
          <a:stretch/>
        </p:blipFill>
        <p:spPr>
          <a:xfrm>
            <a:off x="380880" y="2735280"/>
            <a:ext cx="838224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7726DD9-C0AC-4EFC-977E-6591B02DD1B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2 a-c  The Molecular Structure of Methan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ig_08_22ac"/>
          <p:cNvPicPr/>
          <p:nvPr/>
        </p:nvPicPr>
        <p:blipFill>
          <a:blip r:embed="rId2"/>
          <a:stretch/>
        </p:blipFill>
        <p:spPr>
          <a:xfrm>
            <a:off x="5343480" y="457200"/>
            <a:ext cx="2276640" cy="579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E436EFC-00CC-43E4-A397-8F774FCBB98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5  An Energy-Level Diagram Showing the Formation of Four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ch09_05"/>
          <p:cNvPicPr/>
          <p:nvPr/>
        </p:nvPicPr>
        <p:blipFill>
          <a:blip r:embed="rId2"/>
          <a:stretch/>
        </p:blipFill>
        <p:spPr>
          <a:xfrm>
            <a:off x="380880" y="2589120"/>
            <a:ext cx="8382240" cy="30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DFF3069-71C0-487B-8297-F2109F647DB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  The Effect of an Electric Field on Hydrogen Fluoride 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fig_08_02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4708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766C3A5-A5A6-4E69-A06A-88CC371F263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9040" y="144000"/>
            <a:ext cx="8305920" cy="22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3  The Native 2s and Three 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omic Orbitals Characteristic of a Free Carbon Atom are Combined to Form a New Set of Four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_09_03"/>
          <p:cNvPicPr/>
          <p:nvPr/>
        </p:nvPicPr>
        <p:blipFill>
          <a:blip r:embed="rId2"/>
          <a:stretch/>
        </p:blipFill>
        <p:spPr>
          <a:xfrm>
            <a:off x="457200" y="2798640"/>
            <a:ext cx="8229600" cy="28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94A80D8-2A12-4F48-91B5-181CB4DC450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44100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4 Cross Section of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fig_09_04"/>
          <p:cNvPicPr/>
          <p:nvPr/>
        </p:nvPicPr>
        <p:blipFill>
          <a:blip r:embed="rId2"/>
          <a:stretch/>
        </p:blipFill>
        <p:spPr>
          <a:xfrm>
            <a:off x="1984320" y="1143000"/>
            <a:ext cx="5176800" cy="51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4A1F05B-35FB-4A30-972A-2FEA05EAAD2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81080"/>
            <a:ext cx="83059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6  The Tetrahedral Set of Four 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 of the Carbon Atom are Used to Share Electron Pairs with the Four 1s Orbitals of the Hydrogen Atoms to Form the Four Equivalent C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h09_06"/>
          <p:cNvPicPr/>
          <p:nvPr/>
        </p:nvPicPr>
        <p:blipFill>
          <a:blip r:embed="rId2"/>
          <a:stretch/>
        </p:blipFill>
        <p:spPr>
          <a:xfrm>
            <a:off x="2286000" y="1938240"/>
            <a:ext cx="4572000" cy="4432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ECF6A3E-3E79-46D6-B22B-EBA1B727CE1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7  The Nitrogen Atom in Ammonia is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fig_09_07"/>
          <p:cNvPicPr/>
          <p:nvPr/>
        </p:nvPicPr>
        <p:blipFill>
          <a:blip r:embed="rId2"/>
          <a:stretch/>
        </p:blipFill>
        <p:spPr>
          <a:xfrm>
            <a:off x="1941480" y="1447920"/>
            <a:ext cx="525960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FA783F90-AC48-41F1-8431-041CD1B0F8A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9  An Orbital Energy-Level Diagram for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ch09_09"/>
          <p:cNvPicPr/>
          <p:nvPr/>
        </p:nvPicPr>
        <p:blipFill>
          <a:blip r:embed="rId2"/>
          <a:stretch/>
        </p:blipFill>
        <p:spPr>
          <a:xfrm>
            <a:off x="457200" y="2436840"/>
            <a:ext cx="8229600" cy="30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6F937BA-9456-475C-801F-D5C85AF8F6E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149400"/>
            <a:ext cx="8305920" cy="22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8  The Hybridization of the s, px, and py Atomic Orbitals Results in the Formation of Three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titals Centered in the xy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h09_08"/>
          <p:cNvPicPr/>
          <p:nvPr/>
        </p:nvPicPr>
        <p:blipFill>
          <a:blip r:embed="rId2"/>
          <a:stretch/>
        </p:blipFill>
        <p:spPr>
          <a:xfrm>
            <a:off x="457200" y="2846520"/>
            <a:ext cx="8229600" cy="276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A536F95-31D4-4F52-A2E8-A7CA188FD6E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181080"/>
            <a:ext cx="83059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10  When An s and Two p Orbitals Are Mixed to Form a Set of Three 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, One p Orbital Remains Unchanged and is Perpendicular to the Plane of the Hybri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fig_09_10"/>
          <p:cNvPicPr/>
          <p:nvPr/>
        </p:nvPicPr>
        <p:blipFill>
          <a:blip r:embed="rId2"/>
          <a:stretch/>
        </p:blipFill>
        <p:spPr>
          <a:xfrm>
            <a:off x="1447920" y="2060640"/>
            <a:ext cx="6248160" cy="424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954D203-CCFC-4C51-9DF9-66C365B5D57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1  The Sigma Bonds in Ethyl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fig_09_11"/>
          <p:cNvPicPr/>
          <p:nvPr/>
        </p:nvPicPr>
        <p:blipFill>
          <a:blip r:embed="rId2"/>
          <a:stretch/>
        </p:blipFill>
        <p:spPr>
          <a:xfrm>
            <a:off x="434880" y="1452600"/>
            <a:ext cx="827568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9_22"/>
          <p:cNvPicPr/>
          <p:nvPr/>
        </p:nvPicPr>
        <p:blipFill>
          <a:blip r:embed="rId2"/>
          <a:stretch/>
        </p:blipFill>
        <p:spPr>
          <a:xfrm>
            <a:off x="1911240" y="1440"/>
            <a:ext cx="53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8C9B37CD-0DFC-4001-8473-4DDDEDD69D9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2  A Carbon-Carbon Double Bond Consists of a o and a pi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fig_09_12"/>
          <p:cNvPicPr/>
          <p:nvPr/>
        </p:nvPicPr>
        <p:blipFill>
          <a:blip r:embed="rId2"/>
          <a:stretch/>
        </p:blipFill>
        <p:spPr>
          <a:xfrm>
            <a:off x="1817640" y="1371600"/>
            <a:ext cx="550872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01A1536-70A4-436C-BF5D-DD7C9F40272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3  The Pauling Electronegativity Va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h08_03"/>
          <p:cNvPicPr/>
          <p:nvPr/>
        </p:nvPicPr>
        <p:blipFill>
          <a:blip r:embed="rId2"/>
          <a:stretch/>
        </p:blipFill>
        <p:spPr>
          <a:xfrm>
            <a:off x="380880" y="2246400"/>
            <a:ext cx="8382240" cy="34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C7F562C-3314-468B-AD19-16131A323E3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9040" y="16488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3  (a)The Orbitals Used to Form the Bonds in Ethylene (b) The Lewis Structure for Ethyl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fig_09_13"/>
          <p:cNvPicPr/>
          <p:nvPr/>
        </p:nvPicPr>
        <p:blipFill>
          <a:blip r:embed="rId2"/>
          <a:stretch/>
        </p:blipFill>
        <p:spPr>
          <a:xfrm>
            <a:off x="457200" y="2392200"/>
            <a:ext cx="8229600" cy="34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09_25"/>
          <p:cNvPicPr/>
          <p:nvPr/>
        </p:nvPicPr>
        <p:blipFill>
          <a:blip r:embed="rId2"/>
          <a:stretch/>
        </p:blipFill>
        <p:spPr>
          <a:xfrm>
            <a:off x="1440" y="2252520"/>
            <a:ext cx="91425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BB87833-4BEA-4C2A-9161-B5ECE99E497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140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6  The Orbital Energy-Level Diagram for the Formation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 Orbitals on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h09_16"/>
          <p:cNvPicPr/>
          <p:nvPr/>
        </p:nvPicPr>
        <p:blipFill>
          <a:blip r:embed="rId2"/>
          <a:stretch/>
        </p:blipFill>
        <p:spPr>
          <a:xfrm>
            <a:off x="457200" y="2529000"/>
            <a:ext cx="8229600" cy="312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66E111C-F32E-4E68-9157-BF84C300560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22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4  When One s Orbital and One p Orbital are Hybridized, a Set of Two sp Orbitals Orientated at 180 Degrees Resul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h09_14"/>
          <p:cNvPicPr/>
          <p:nvPr/>
        </p:nvPicPr>
        <p:blipFill>
          <a:blip r:embed="rId2"/>
          <a:stretch/>
        </p:blipFill>
        <p:spPr>
          <a:xfrm>
            <a:off x="380880" y="3408480"/>
            <a:ext cx="8382240" cy="164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461A246-2933-4EFF-B678-203B71C315A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720" y="47520"/>
            <a:ext cx="891540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20 a-d  (a)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ized Nitrogen Atom (b) The o Bonds in the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 (c) The Two pi Bonds in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ormed When Electron Pairs Are Shared between two Sets of Parall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 (d) The Total Bonding  Picture of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fig_09_20ad"/>
          <p:cNvPicPr/>
          <p:nvPr/>
        </p:nvPicPr>
        <p:blipFill>
          <a:blip r:embed="rId2"/>
          <a:stretch/>
        </p:blipFill>
        <p:spPr>
          <a:xfrm>
            <a:off x="1447920" y="2347920"/>
            <a:ext cx="6248160" cy="40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843FF364-A848-4C86-9523-13C0CA42CDD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7  The Orbitals of a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ed Carbo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fig_09_17"/>
          <p:cNvPicPr/>
          <p:nvPr/>
        </p:nvPicPr>
        <p:blipFill>
          <a:blip r:embed="rId2"/>
          <a:stretch/>
        </p:blipFill>
        <p:spPr>
          <a:xfrm>
            <a:off x="1492200" y="1371600"/>
            <a:ext cx="615960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0BAF95D-121F-479B-81C2-C33CF324AF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9040" y="1292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5  The Hybrid Orbitals in th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fig_09_15"/>
          <p:cNvPicPr/>
          <p:nvPr/>
        </p:nvPicPr>
        <p:blipFill>
          <a:blip r:embed="rId2"/>
          <a:stretch/>
        </p:blipFill>
        <p:spPr>
          <a:xfrm>
            <a:off x="515880" y="1371600"/>
            <a:ext cx="811044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27025E83-E258-4413-A449-08599476293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8  The Orbital Arrangement for a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ed Oxy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fig_09_18"/>
          <p:cNvPicPr/>
          <p:nvPr/>
        </p:nvPicPr>
        <p:blipFill>
          <a:blip r:embed="rId2"/>
          <a:stretch/>
        </p:blipFill>
        <p:spPr>
          <a:xfrm>
            <a:off x="1328760" y="1371600"/>
            <a:ext cx="648648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208E9D9-7F8D-406C-9329-709B57775E8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167760"/>
            <a:ext cx="830592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9.19  (a) The Orbitals Used to form the Bonds in Carbon Dioxide; Note that the Carbon-Oxygen Double Bonds Each Consist of One o Bond and One pi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ch09_19"/>
          <p:cNvPicPr/>
          <p:nvPr/>
        </p:nvPicPr>
        <p:blipFill>
          <a:blip r:embed="rId2"/>
          <a:stretch/>
        </p:blipFill>
        <p:spPr>
          <a:xfrm>
            <a:off x="380880" y="2427120"/>
            <a:ext cx="8382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F11BDC9-3C5E-46DD-AE38-EE1E28A80C2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1  A Set of d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 Orbitals on Phosphorus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fig_09_21"/>
          <p:cNvPicPr/>
          <p:nvPr/>
        </p:nvPicPr>
        <p:blipFill>
          <a:blip r:embed="rId2"/>
          <a:stretch/>
        </p:blipFill>
        <p:spPr>
          <a:xfrm>
            <a:off x="1279440" y="1447920"/>
            <a:ext cx="658332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D1EB9F3-10A9-411A-80BD-02A97CA1A09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27" descr="table_08_01"/>
          <p:cNvPicPr/>
          <p:nvPr/>
        </p:nvPicPr>
        <p:blipFill>
          <a:blip r:embed="rId2"/>
          <a:stretch/>
        </p:blipFill>
        <p:spPr>
          <a:xfrm>
            <a:off x="774720" y="1039680"/>
            <a:ext cx="76071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7DB5564-49A5-42B9-8A7F-B5EB23FA9CC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1292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2b  The Orbitals Used to Form the Bonds in P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ch09_22b"/>
          <p:cNvPicPr/>
          <p:nvPr/>
        </p:nvPicPr>
        <p:blipFill>
          <a:blip r:embed="rId2"/>
          <a:stretch/>
        </p:blipFill>
        <p:spPr>
          <a:xfrm>
            <a:off x="2208240" y="1447920"/>
            <a:ext cx="472896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1CA9E150-6196-4F83-8DCD-9FE620E0120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3  An Octahedral Set of d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s on Sulfur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fig_09_23"/>
          <p:cNvPicPr/>
          <p:nvPr/>
        </p:nvPicPr>
        <p:blipFill>
          <a:blip r:embed="rId2"/>
          <a:stretch/>
        </p:blipFill>
        <p:spPr>
          <a:xfrm>
            <a:off x="1600200" y="1622520"/>
            <a:ext cx="5943600" cy="466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EE3BB6DD-1793-4988-A868-F81DC8616FA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44100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ill_09_01"/>
          <p:cNvPicPr/>
          <p:nvPr/>
        </p:nvPicPr>
        <p:blipFill>
          <a:blip r:embed="rId2"/>
          <a:stretch/>
        </p:blipFill>
        <p:spPr>
          <a:xfrm>
            <a:off x="457200" y="2316240"/>
            <a:ext cx="8229600" cy="300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36ED0C3-18E5-409D-9D6C-D2C27A38180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1200" y="-360"/>
            <a:ext cx="30355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9.24  Relationship of the Number of Effective Pairs, Their Spatial Arrangement, and the Hybrid Orbital Se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fig_09_24"/>
          <p:cNvPicPr/>
          <p:nvPr/>
        </p:nvPicPr>
        <p:blipFill>
          <a:blip r:embed="rId2"/>
          <a:stretch/>
        </p:blipFill>
        <p:spPr>
          <a:xfrm>
            <a:off x="4451400" y="380880"/>
            <a:ext cx="4083120" cy="594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9_29-01UNEx9-7"/>
          <p:cNvPicPr/>
          <p:nvPr/>
        </p:nvPicPr>
        <p:blipFill>
          <a:blip r:embed="rId2"/>
          <a:stretch/>
        </p:blipFill>
        <p:spPr>
          <a:xfrm>
            <a:off x="1440" y="2346480"/>
            <a:ext cx="91425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09_30Ex9-7"/>
          <p:cNvPicPr/>
          <p:nvPr/>
        </p:nvPicPr>
        <p:blipFill>
          <a:blip r:embed="rId2"/>
          <a:stretch/>
        </p:blipFill>
        <p:spPr>
          <a:xfrm>
            <a:off x="271152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09_29"/>
          <p:cNvPicPr/>
          <p:nvPr/>
        </p:nvPicPr>
        <p:blipFill>
          <a:blip r:embed="rId2"/>
          <a:stretch/>
        </p:blipFill>
        <p:spPr>
          <a:xfrm>
            <a:off x="1440" y="1889280"/>
            <a:ext cx="9142560" cy="30812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1403640" y="86364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Resonance in Benz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67388DDF-AF12-407F-A3F7-2B3D3C09C2D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4  An Electrostatic Potential Map of H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fig_08_04"/>
          <p:cNvPicPr/>
          <p:nvPr/>
        </p:nvPicPr>
        <p:blipFill>
          <a:blip r:embed="rId2"/>
          <a:stretch/>
        </p:blipFill>
        <p:spPr>
          <a:xfrm>
            <a:off x="2057400" y="1596960"/>
            <a:ext cx="5029200" cy="471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2063443-73F3-46D1-952E-E90549280A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5 a-c  The Charge Distribution in the Water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ig_08_05ac"/>
          <p:cNvPicPr/>
          <p:nvPr/>
        </p:nvPicPr>
        <p:blipFill>
          <a:blip r:embed="rId2"/>
          <a:stretch/>
        </p:blipFill>
        <p:spPr>
          <a:xfrm>
            <a:off x="533520" y="2332080"/>
            <a:ext cx="8076960" cy="32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A6A0151-720F-4594-88BE-BD5D8212B9E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6 a-c  The Structure and Charge Distribution of the Ammonia Molec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ig_08_06ac"/>
          <p:cNvPicPr/>
          <p:nvPr/>
        </p:nvPicPr>
        <p:blipFill>
          <a:blip r:embed="rId2"/>
          <a:stretch/>
        </p:blipFill>
        <p:spPr>
          <a:xfrm>
            <a:off x="457200" y="2570040"/>
            <a:ext cx="8229600" cy="304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13C2E4F-1A8F-4FFD-9250-5FB029C2CE9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7 a-c  The Carbon Dioxide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ig_08_07ac"/>
          <p:cNvPicPr/>
          <p:nvPr/>
        </p:nvPicPr>
        <p:blipFill>
          <a:blip r:embed="rId2"/>
          <a:stretch/>
        </p:blipFill>
        <p:spPr>
          <a:xfrm>
            <a:off x="533520" y="2647800"/>
            <a:ext cx="8076960" cy="2616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2:40:16Z</dcterms:created>
  <dc:creator>football</dc:creator>
  <dc:description/>
  <dc:language>en-US</dc:language>
  <cp:lastModifiedBy>Ed McTigue</cp:lastModifiedBy>
  <dcterms:modified xsi:type="dcterms:W3CDTF">2012-12-03T19:19:32Z</dcterms:modified>
  <cp:revision>19</cp:revision>
  <dc:subject/>
  <dc:title>PowerPoint Presentation</dc:title>
</cp:coreProperties>
</file>